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8B4C-F133-4A1E-B2B2-FEA5AE8A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0246-688B-4D02-A9FB-357E46C10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C86-D7EF-48CC-9BB5-1DB755F8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A0EC-9D27-43D0-B480-24BA7BEA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384D-DF25-4752-8C2F-EC695F50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3393-D7B0-4BF6-9CC1-7489286C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1C593-87DC-40AE-B287-7C0CF8B1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734-68B0-4AFA-A4DC-72784EA0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A950-410A-43A5-9136-D7129E8B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B5D8-BF19-4578-BBD3-F4FAE850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88B7-FC05-4230-9474-397FDC37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0B06-D733-4D64-9C10-2C728E859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D483-25F2-4ECB-BFC4-BF3D0F1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08AE-E7B1-43DC-8CB5-A2B6BFC7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93D60-DF34-4B9A-AB2A-26858A11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09BFD-FD6F-4AC9-AA31-47E150150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29D3-350B-4208-88E8-91DD592E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1C9-25A5-4973-8BB0-E91CD9A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9B42-1B08-4859-888A-343FA22D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F63-B2E4-4489-A72F-E671D204F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D8C1-A54C-4A16-9A1C-C3989CF6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BC85-58DA-44F4-8D8D-22EA4D430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3D26-A66F-41AE-A5FD-BB1735F3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6CFC-B6B7-4E0C-9B11-C491F783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BE67-6842-4980-AD4D-B924E4FEE319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5883-1A5E-4A78-B7E7-C4781F85EAAD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14320" y="1285920"/>
            <a:ext cx="707220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330033"/>
                </a:solidFill>
                <a:latin typeface="Times New Roman"/>
              </a:rPr>
              <a:t>Obsolescencia del Hardware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57200" y="3714840"/>
            <a:ext cx="714384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Hecho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Pamela Arias Varg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of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Estrella Córdo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BI 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Medio Ambienta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2214720"/>
            <a:ext cx="77724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Varias empresas ya se han comprometido a remplazar algunos de los químicos de los computadores, tales como los metales pesados (mercurio, plomo, cadmio), por otras sustancias menos nocivas para e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Documents and Settings\Familia\Escritorio\pilacomp.jpg"/>
          <p:cNvPicPr/>
          <p:nvPr/>
        </p:nvPicPr>
        <p:blipFill>
          <a:blip r:embed="rId1"/>
          <a:stretch/>
        </p:blipFill>
        <p:spPr>
          <a:xfrm>
            <a:off x="5929200" y="4357800"/>
            <a:ext cx="207504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Documents and Settings\Familia\Escritorio\basura-electronica-1.jpg"/>
          <p:cNvPicPr/>
          <p:nvPr/>
        </p:nvPicPr>
        <p:blipFill>
          <a:blip r:embed="rId1"/>
          <a:stretch/>
        </p:blipFill>
        <p:spPr>
          <a:xfrm>
            <a:off x="642960" y="642960"/>
            <a:ext cx="4681440" cy="3643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C:\Documents and Settings\Familia\Escritorio\o_Basura Electrónica2 wastes 3.GIF"/>
          <p:cNvPicPr/>
          <p:nvPr/>
        </p:nvPicPr>
        <p:blipFill>
          <a:blip r:embed="rId2"/>
          <a:stretch/>
        </p:blipFill>
        <p:spPr>
          <a:xfrm>
            <a:off x="3143160" y="3357720"/>
            <a:ext cx="5334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Económ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7160" y="2000160"/>
            <a:ext cx="777240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Cada año se venden millones de PCs las cuales poseen muchos tóxicos, debido a la gran contaminación muchas personas están dispuestas a pagar grandes cantidades de dinero por computadores que contengan sustancias menos tóx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C:\Documents and Settings\Familia\Escritorio\dinero71.jpg"/>
          <p:cNvPicPr/>
          <p:nvPr/>
        </p:nvPicPr>
        <p:blipFill>
          <a:blip r:embed="rId1"/>
          <a:stretch/>
        </p:blipFill>
        <p:spPr>
          <a:xfrm>
            <a:off x="4643280" y="4143240"/>
            <a:ext cx="221472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Polít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856880"/>
            <a:ext cx="7772400" cy="31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chos países son conscientes del daño q hacemos a nuestro planeta, e implementan leyes para mejorar la protección hacia el medio ambiente; tal es el caso de Europa que es uno de los países que muestran un gran ejemplo, ya que se preocupa por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seguir una industria electrónica más consciente ambient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hacen políticas de recicla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Familia\Escritorio\reciclar.jpg"/>
          <p:cNvPicPr/>
          <p:nvPr/>
        </p:nvPicPr>
        <p:blipFill>
          <a:blip r:embed="rId1"/>
          <a:stretch/>
        </p:blipFill>
        <p:spPr>
          <a:xfrm>
            <a:off x="6429240" y="4714920"/>
            <a:ext cx="168300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Familia\Escritorio\e-waste.jpg"/>
          <p:cNvPicPr/>
          <p:nvPr/>
        </p:nvPicPr>
        <p:blipFill>
          <a:blip r:embed="rId1"/>
          <a:stretch/>
        </p:blipFill>
        <p:spPr>
          <a:xfrm>
            <a:off x="857160" y="214200"/>
            <a:ext cx="4071960" cy="4071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C:\Documents and Settings\Familia\Escritorio\ewaste.jpg"/>
          <p:cNvPicPr/>
          <p:nvPr/>
        </p:nvPicPr>
        <p:blipFill>
          <a:blip r:embed="rId2"/>
          <a:stretch/>
        </p:blipFill>
        <p:spPr>
          <a:xfrm>
            <a:off x="4214880" y="3214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Psicológico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28800" y="1928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sustancias tóxicas que poseen los aparatos electrónicos pueden causar enfermedades en las person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C:\Documents and Settings\Familia\Escritorio\enfermo[1].gif"/>
          <p:cNvPicPr/>
          <p:nvPr/>
        </p:nvPicPr>
        <p:blipFill>
          <a:blip r:embed="rId1"/>
          <a:stretch/>
        </p:blipFill>
        <p:spPr>
          <a:xfrm>
            <a:off x="4214880" y="3857760"/>
            <a:ext cx="287496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200" spc="-1" strike="noStrike">
                <a:solidFill>
                  <a:srgbClr val="330033"/>
                </a:solidFill>
                <a:latin typeface="Times New Roman"/>
              </a:rPr>
              <a:t>Aspectos Socia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7160" y="1999800"/>
            <a:ext cx="7772400" cy="38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basura electrónica posee sustancias tóxicas que ponen en peligro la salud, no solo de los trabajadores sino también la del pueblo en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La basura electrónica es un gran problema social, ya que todos nos vemos implicados y al final por unos, todos vamos a terminar mal, por esta razón es que todos debemos hacer conciencia del daño que estamos hacien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C:\Documents and Settings\Familia\Escritorio\un-gran-globo-con-la-leyenda.jpg"/>
          <p:cNvPicPr/>
          <p:nvPr/>
        </p:nvPicPr>
        <p:blipFill>
          <a:blip r:embed="rId1"/>
          <a:stretch/>
        </p:blipFill>
        <p:spPr>
          <a:xfrm>
            <a:off x="1071720" y="714240"/>
            <a:ext cx="3396960" cy="5072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C:\Documents and Settings\Familia\Escritorio\Salvemos-Planeta5208-300.jpg"/>
          <p:cNvPicPr/>
          <p:nvPr/>
        </p:nvPicPr>
        <p:blipFill>
          <a:blip r:embed="rId2"/>
          <a:stretch/>
        </p:blipFill>
        <p:spPr>
          <a:xfrm>
            <a:off x="4714920" y="2286000"/>
            <a:ext cx="40719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18:27:04Z</dcterms:created>
  <dc:creator>e02-0730</dc:creator>
  <dc:description/>
  <dc:language>en-US</dc:language>
  <cp:lastModifiedBy>Familia Arias Vargas</cp:lastModifiedBy>
  <dcterms:modified xsi:type="dcterms:W3CDTF">2009-04-11T15:38:22Z</dcterms:modified>
  <cp:revision>30</cp:revision>
  <dc:subject/>
  <dc:title>Obsolescencia del Hardware </dc:title>
</cp:coreProperties>
</file>